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Diapositiva1"/>
          <p:cNvPicPr/>
          <p:nvPr/>
        </p:nvPicPr>
        <p:blipFill>
          <a:blip r:embed="rId3"/>
          <a:stretch/>
        </p:blipFill>
        <p:spPr>
          <a:xfrm>
            <a:off x="7885080" y="189000"/>
            <a:ext cx="1082880" cy="787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492360" y="40464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Rounded MT Bold"/>
              </a:rPr>
              <a:t>CREATIVIDAD E INNOVACIÓN EN EL USO DE LAS 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1 Imagen" descr="logofatla.jpg"/>
          <p:cNvPicPr/>
          <p:nvPr/>
        </p:nvPicPr>
        <p:blipFill>
          <a:blip r:embed="rId4"/>
          <a:stretch/>
        </p:blipFill>
        <p:spPr>
          <a:xfrm>
            <a:off x="250920" y="189000"/>
            <a:ext cx="2928960" cy="608040"/>
          </a:xfrm>
          <a:prstGeom prst="rect">
            <a:avLst/>
          </a:prstGeom>
          <a:ln w="0">
            <a:noFill/>
          </a:ln>
        </p:spPr>
      </p:pic>
      <p:pic>
        <p:nvPicPr>
          <p:cNvPr id="4" name="2 Imagen" descr="expertoelearning.png"/>
          <p:cNvPicPr/>
          <p:nvPr/>
        </p:nvPicPr>
        <p:blipFill>
          <a:blip r:embed="rId5"/>
          <a:stretch/>
        </p:blipFill>
        <p:spPr>
          <a:xfrm>
            <a:off x="802800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71640" y="616572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Monotype Corsiva"/>
              </a:rPr>
              <a:t>Dando vidas a cosas nuevas con capacidad de Innovación y Crea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Subtítulo"/>
          <p:cNvSpPr/>
          <p:nvPr/>
        </p:nvSpPr>
        <p:spPr>
          <a:xfrm>
            <a:off x="1763640" y="126828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FATLA </a:t>
            </a:r>
            <a:br>
              <a:rPr sz="1400"/>
            </a:b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Fundación para la Actualización Tecnológica de Latinoamérica</a:t>
            </a:r>
            <a:br>
              <a:rPr sz="1400"/>
            </a:b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Programa de Experto en Procesos Elearning</a:t>
            </a:r>
            <a:br>
              <a:rPr sz="1400"/>
            </a:b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Módulo 5 - Metodología PACIE - 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971640" y="2565360"/>
            <a:ext cx="77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WEB 2.0: OPORTUNIDAD DE CAPACITAR EN EL USO DE LAS HERRAMIENTAS TECNOLÓGICAS A LOS DOCENTES DE LA UCLA, PARA SER IMPLEMENTADO EN EL  PROCESO DE APRENDIZ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3645000"/>
            <a:ext cx="66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CITIC: CREATIVIDAD E INNOVACIÓN EN EL USO DE LAS 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4653000"/>
            <a:ext cx="28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Coordin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Nancy Gómez -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437000"/>
            <a:ext cx="3058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María M. Cambil- Venezuela</a:t>
            </a:r>
            <a:br>
              <a:rPr sz="1600"/>
            </a:b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Maribel Viales - Costa Rica</a:t>
            </a:r>
            <a:br>
              <a:rPr sz="1600"/>
            </a:b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Nancy Gómez - 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agen de Maribel Viales Obregón"/>
          <p:cNvPicPr/>
          <p:nvPr/>
        </p:nvPicPr>
        <p:blipFill>
          <a:blip r:embed="rId1"/>
          <a:stretch/>
        </p:blipFill>
        <p:spPr>
          <a:xfrm>
            <a:off x="3591000" y="4896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magen de Nancy M. Gómez de Lugo"/>
          <p:cNvPicPr/>
          <p:nvPr/>
        </p:nvPicPr>
        <p:blipFill>
          <a:blip r:embed="rId2"/>
          <a:stretch/>
        </p:blipFill>
        <p:spPr>
          <a:xfrm>
            <a:off x="3591000" y="5327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agen de María Mercedes Cambil Caruci"/>
          <p:cNvPicPr/>
          <p:nvPr/>
        </p:nvPicPr>
        <p:blipFill>
          <a:blip r:embed="rId3"/>
          <a:stretch/>
        </p:blipFill>
        <p:spPr>
          <a:xfrm>
            <a:off x="3591000" y="4535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2349360"/>
          <a:ext cx="8785440" cy="247680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16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ivos digitales Vrs modelos de 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: Nativos digitales y modelos de 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s grupales de discusión en relación a la lectu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2565360"/>
          <a:ext cx="8785080" cy="2789280"/>
        </p:xfrm>
        <a:graphic>
          <a:graphicData uri="http://schemas.openxmlformats.org/drawingml/2006/table">
            <a:tbl>
              <a:tblPr/>
              <a:tblGrid>
                <a:gridCol w="104112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 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ramientas digitales y su aplicación a la educ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través de un foro general los participantes buscan y comentan diferentes herramientas digitales aplicables a la Educ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general de discusión relacionado con las herramientas encontra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132000" y="1556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89000"/>
          <a:ext cx="8785440" cy="397044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gina Youtube como biblioteca multimedia de la escu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 del manual de cómo bajar y subir vide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ea: Los participantes diseñan una guía de observación para un video determinado y lo comparten en la Wiki  junto con el link del vide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Taller de dudas General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sobre guías de observ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989000"/>
          <a:ext cx="8785440" cy="376092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291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herramienta de Google Docs para el desarrollo de redes de intercambio virtu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 ppt del manual de Google Do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bajo en subgrupos, los cuales realizaran un Planeamiento en línea el cual involucre el uso de herramientas digitales, el cual enviaran a través de Google Docs al profes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Taller de dudas Gener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8920" y="1844640"/>
          <a:ext cx="8785080" cy="4122720"/>
        </p:xfrm>
        <a:graphic>
          <a:graphicData uri="http://schemas.openxmlformats.org/drawingml/2006/table">
            <a:tbl>
              <a:tblPr/>
              <a:tblGrid>
                <a:gridCol w="1041120"/>
                <a:gridCol w="1636920"/>
                <a:gridCol w="2114280"/>
                <a:gridCol w="2327400"/>
                <a:gridCol w="166536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maximizar el uso las herramientas de la Web 2 en los nativos digitales. (la educación frente a estos requerimien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stival de citas bibliográficas.Todos los participantes realizaran una búsqueda bibliográfica relacionada con la Educación vrs nativos digitales. Anotaran citas textuales del documento encontrado con su respectiva bibliografía y darán aportes a las de sus compañer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intercambio de citas textuales y bibliograf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27280" y="15422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1646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2670120"/>
            <a:ext cx="1066680" cy="142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432576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entes en el área de Informática y entrenados a través de FAT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35280" y="2781360"/>
            <a:ext cx="1474920" cy="118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4920" y="2197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43257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Sistema de Educación a Distancia (SEDUC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lataforma MOO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2204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755720" cy="1317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57800" y="415764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Ingreso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royectos a través de la Ley orgánica de Ciencias y Tecnología (LOC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547640" y="2205000"/>
            <a:ext cx="5688000" cy="3311640"/>
            <a:chOff x="1547640" y="2205000"/>
            <a:chExt cx="5688000" cy="3311640"/>
          </a:xfrm>
        </p:grpSpPr>
        <p:sp>
          <p:nvSpPr>
            <p:cNvPr id="113" name=""/>
            <p:cNvSpPr/>
            <p:nvPr/>
          </p:nvSpPr>
          <p:spPr>
            <a:xfrm>
              <a:off x="1556640" y="2205000"/>
              <a:ext cx="5679000" cy="3093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48dd4"/>
                </a:gs>
                <a:gs pos="50000">
                  <a:srgbClr val="ccffff"/>
                </a:gs>
                <a:gs pos="100000">
                  <a:srgbClr val="548dd4"/>
                </a:gs>
              </a:gsLst>
              <a:lin ang="5400000"/>
            </a:gradFill>
            <a:ln w="38160">
              <a:solidFill>
                <a:srgbClr val="0033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26360" y="2612520"/>
              <a:ext cx="1285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Utilizar p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apr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0880" y="3676320"/>
              <a:ext cx="1286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Apr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a utiliz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5000" y="4347720"/>
              <a:ext cx="17146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Cualificacion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del profesor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97160" y="4347720"/>
              <a:ext cx="17139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Cambi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organiz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251880" y="3363120"/>
              <a:ext cx="2357280" cy="16869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7640" y="5135040"/>
              <a:ext cx="5678640" cy="381600"/>
            </a:xfrm>
            <a:prstGeom prst="rect">
              <a:avLst/>
            </a:prstGeom>
            <a:gradFill rotWithShape="0">
              <a:gsLst>
                <a:gs pos="0">
                  <a:srgbClr val="548dd4"/>
                </a:gs>
                <a:gs pos="50000">
                  <a:srgbClr val="ccffff"/>
                </a:gs>
                <a:gs pos="100000">
                  <a:srgbClr val="548dd4"/>
                </a:gs>
              </a:gsLst>
              <a:lin ang="5400000"/>
            </a:gradFill>
            <a:ln w="381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nard MT Condensed"/>
                </a:rPr>
                <a:t>Infraestructura téc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353840" y="3168720"/>
              <a:ext cx="0" cy="42192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854080" y="4910400"/>
              <a:ext cx="0" cy="42156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853600" y="4910400"/>
              <a:ext cx="0" cy="42156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31240" y="4782960"/>
              <a:ext cx="0" cy="42156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65720" y="3871800"/>
              <a:ext cx="428760" cy="28116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858560" y="3912120"/>
              <a:ext cx="428760" cy="42084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95280" y="14119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RATEGIA PARA LA INTEGRACIÓN DE LAS TIC EN EL SISTEMA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0" y="13406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OD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286200" y="2577240"/>
            <a:ext cx="43164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P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63196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ncia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reando la necesidad institucional, conservando la imagen corporativa y promoviendo a los docentes que accedan a la capacitación que ofrece el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upo CITI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179280" y="3429000"/>
            <a:ext cx="50292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540240"/>
            <a:ext cx="81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ance: Estableciendo los objetivos sobre lo que se quiere lograr en el proceso de capacitación, determinando las habilidades y destrezas a desarrollar en los docentes, a través de los estándares y marcas académic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143640" y="454572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591080"/>
            <a:ext cx="82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acitación: basándonos en el ciclo del diseño, se implementará una investigación permanente que permita fomentar el aprendizaje significativo en los docentes de la UCLA a través de la fase de planificación que abarca el contenido, duración y objetivos que pretendemos lograr con las tutorías virtuales del curso de capa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11280" y="1773360"/>
            <a:ext cx="41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TODOLOGÍA PACI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1773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Pocos de nosotros podemos hacer grandes cosas, pero todos podemos hacer cosas pequeñas con gran am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6450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DRE TERESA DE CALC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67640" y="3500280"/>
            <a:ext cx="933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CuadroTexto"/>
          <p:cNvSpPr/>
          <p:nvPr/>
        </p:nvSpPr>
        <p:spPr>
          <a:xfrm>
            <a:off x="179280" y="1268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WEB 2.0: OPORTUNIDAD DE CAPACITAR EN EL USO DE LAS HERRAMIENTAS TECNOLÓGICAS A LOS DOCENTES DE LA UCLA, PARA SER IMPLEMENTADO EN EL  PROCES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349360"/>
            <a:ext cx="864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citar en herramientas tecnológicas a los docentes de la UCLA, para ser implementado en el proceso de aprendiz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716280"/>
            <a:ext cx="849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undir a través de diversos medios, la importancia y relevancia de la capa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vocar a todos los docentes de la UCLA a su participación en el proc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tivar a los docentes a apropiarse de las herramientas tecnológicas para ser usadas en los entornos de enseña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19988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0920" y="134064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Centroccidental Lisandro Alvarado (UCL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916280"/>
            <a:ext cx="70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bicada en la Carrera 19 entre calles 8 y 9. Edificio Rectorado de la Ciudad de Barquisimeto, Estado Lara de VENEZUE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Nelly" descr="Prof. Nelly V."/>
          <p:cNvPicPr/>
          <p:nvPr/>
        </p:nvPicPr>
        <p:blipFill>
          <a:blip r:embed="rId2"/>
          <a:stretch/>
        </p:blipFill>
        <p:spPr>
          <a:xfrm>
            <a:off x="5364000" y="4508640"/>
            <a:ext cx="1041480" cy="1168200"/>
          </a:xfrm>
          <a:prstGeom prst="rect">
            <a:avLst/>
          </a:prstGeom>
          <a:ln w="0">
            <a:noFill/>
          </a:ln>
        </p:spPr>
      </p:pic>
      <p:pic>
        <p:nvPicPr>
          <p:cNvPr id="57" name="ugel" descr=""/>
          <p:cNvPicPr/>
          <p:nvPr/>
        </p:nvPicPr>
        <p:blipFill>
          <a:blip r:embed="rId3"/>
          <a:stretch/>
        </p:blipFill>
        <p:spPr>
          <a:xfrm>
            <a:off x="7667640" y="4508640"/>
            <a:ext cx="1042920" cy="1168200"/>
          </a:xfrm>
          <a:prstGeom prst="rect">
            <a:avLst/>
          </a:prstGeom>
          <a:ln w="0">
            <a:noFill/>
          </a:ln>
        </p:spPr>
      </p:pic>
      <p:pic>
        <p:nvPicPr>
          <p:cNvPr id="58" name="rector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893520" cy="1168560"/>
          </a:xfrm>
          <a:prstGeom prst="rect">
            <a:avLst/>
          </a:prstGeom>
          <a:ln w="0">
            <a:noFill/>
          </a:ln>
        </p:spPr>
      </p:pic>
      <p:pic>
        <p:nvPicPr>
          <p:cNvPr id="59" name="Edgar" descr=""/>
          <p:cNvPicPr/>
          <p:nvPr/>
        </p:nvPicPr>
        <p:blipFill>
          <a:blip r:embed="rId5"/>
          <a:stretch/>
        </p:blipFill>
        <p:spPr>
          <a:xfrm>
            <a:off x="2771640" y="4508640"/>
            <a:ext cx="957240" cy="1168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440" y="378936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. Francesco Le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364500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Lic.  Edgar Alvar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Vicerrector Administra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371628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ahoma"/>
              </a:rPr>
              <a:t>Prof. Nelly Velásqu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ahoma"/>
              </a:rPr>
              <a:t>Vicerrector Académic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371628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Prof. Francisco U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Secretario Gene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2851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MAXIMAS AUTORIDAD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2998080"/>
            <a:ext cx="84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Ser una Institución con calidad académica y pertinencia social, reconocida por su aporte al desarrollo local y nacional, fundamentada en una cultura institucional orientada hacia el progreso y la efic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03440" cy="72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0920" y="134064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Centroccidental Lisandro Alvarado (UCL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59216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Contribuir con el desarrollo humanístico, científico y tecnológico a nivel local y nacional, mediante la difusión y generación de saberes y la formación de profesionales con competencias y afianzados principios humanos como la ética, justicia, libertad y solidar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491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14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1871640" cy="133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BLACIÓN SUJETA A LA CAPACIT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917000"/>
            <a:ext cx="4535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Administración y Contadu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Contadurí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28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1800000" cy="143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84360" y="3646440"/>
            <a:ext cx="35942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Agr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Agr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Agro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Agro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208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BLACIÓN SUJETA A LA CAPACIT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978200" cy="14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1978200" cy="141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00360" y="1903680"/>
            <a:ext cx="4197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 Ciencias y Tecnolog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en Infor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Análisis de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Ma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4052160"/>
            <a:ext cx="3917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Ciencias Veterin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Medicina Veter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Agropec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087640" cy="151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2046600"/>
            <a:ext cx="3232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Ingenierí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25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BLACIÓN SUJETA A LA CAPACIT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2087640" cy="149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71640" y="3790800"/>
            <a:ext cx="3816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Ciencias de la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en 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534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BLACIÓN SUJETA A LA CAPACIT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1977840" cy="14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18880" y="2034720"/>
            <a:ext cx="3810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ecanato de Humanidades y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Artes Plá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Desarroll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Psic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6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4076640"/>
            <a:ext cx="489744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Docentes UCLA: 1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16360" y="134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2349360"/>
          <a:ext cx="8785440" cy="3071880"/>
        </p:xfrm>
        <a:graphic>
          <a:graphicData uri="http://schemas.openxmlformats.org/drawingml/2006/table">
            <a:tbl>
              <a:tblPr/>
              <a:tblGrid>
                <a:gridCol w="1041840"/>
                <a:gridCol w="1636560"/>
                <a:gridCol w="2114280"/>
                <a:gridCol w="2327760"/>
                <a:gridCol w="166500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aula Virtual, ubicación, navegabilidad y Se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lizando Mi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endo a Mis compañer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resentación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resentación de la institución e intercambios con compañeros de curs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 de socialización: “Presentación y expectativas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54:22Z</dcterms:created>
  <dc:creator>personal</dc:creator>
  <dc:description/>
  <dc:language>en-US</dc:language>
  <cp:lastModifiedBy>personal</cp:lastModifiedBy>
  <dcterms:modified xsi:type="dcterms:W3CDTF">2010-01-26T22:30:05Z</dcterms:modified>
  <cp:revision>47</cp:revision>
  <dc:subject/>
  <dc:title>Diapositiva 1</dc:title>
</cp:coreProperties>
</file>